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  <p:sldId id="267" r:id="rId34"/>
    <p:sldId id="268" r:id="rId35"/>
    <p:sldId id="269" r:id="rId36"/>
    <p:sldId id="270" r:id="rId37"/>
    <p:sldId id="271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slide" Target="slides/slide12.xml"/><Relationship Id="rId35" Type="http://schemas.openxmlformats.org/officeDocument/2006/relationships/slide" Target="slides/slide13.xml"/><Relationship Id="rId36" Type="http://schemas.openxmlformats.org/officeDocument/2006/relationships/slide" Target="slides/slide14.xml"/><Relationship Id="rId37" Type="http://schemas.openxmlformats.org/officeDocument/2006/relationships/slide" Target="slides/slide15.xml"/><Relationship Id="rId38" Type="http://schemas.openxmlformats.org/officeDocument/2006/relationships/slide" Target="slides/slide1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505D-1F7F-4024-94E9-3E43B2652C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6CA5-728C-45ED-8B34-8480C8C7E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C003912-07F7-4CDD-B42F-5836FFF30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79AA208-BEB6-42BD-9BF6-E35C428C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372103-7460-481D-AF1D-CAB6CC034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A791C1-4C9F-4747-80D8-707B612F3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38EED9-1B97-4E70-9C84-1B17AF51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CF323-921F-44F4-803B-F4E0EE53D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08310E-A1D7-4826-8360-68C194315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2BBA89-3893-4A7D-AFAD-14BA4ABA0C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177155-D1A5-4D18-A927-7C9B1416D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0E977C-9701-4A13-94FA-F32678CFE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40C9-BED1-4AC7-BF90-AE355A15F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5A6031A-02B1-4A3D-9E2F-EA127A4E1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8EB5D03-90F7-4214-9454-7333400E1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B4FDC4-9557-42A0-87C5-27BC00D18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D67CA1-2BE3-4D58-9CD5-C66B2B586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56ADE5-281E-402B-981C-2D6A7DE391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F6ECB52-1D75-466A-BC3F-128FDF132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A8C4F5-B219-4393-92B0-F32C02D5E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9A43A3-0507-446A-9315-6C2EB76AF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2AC25E-2A01-4F8B-9F67-D5FC7EDEF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954117-E4E6-48E7-97FB-AD0C9DA38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77B2-FBB7-4D97-B453-97CE8A152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839EDC-8523-4AB6-8535-AAD87FECD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5D15DD-257E-4058-9F50-67A57788D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505AA1-BE05-4578-B848-B6A0D226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1007B6-0352-4ED2-A088-C0B5614D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FBE7F6-C0A7-4041-BFFA-99075D5A7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F1FFDE8-2E97-4226-9C59-54C3BCD62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DA456-27FC-452A-B01C-F9DFB03A6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BF5335-C1EA-41BF-BA74-8B30C07E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AFCBF1-88AD-46C3-BFE6-99EF4ECD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EFDF9F-927B-49A1-BF84-D289E7E97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20665-D28C-4B78-AECB-331EF73EC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495D44E-7FEA-4058-A64A-3567A26A1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360D87-4F7F-4137-B597-EE15D1F23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D33FC5-CDF2-479C-AB1B-99C26BB626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DE88A9-2BE0-40FF-9522-C501C1E9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F82CF2-B307-4D69-8E81-993BFFE25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BD616D-65DA-4DB3-B4D1-E7F43A0CB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AEA604-2138-40B8-B240-44CC412D0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13575D-A16C-407B-BC88-3BB4FD4D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E18D85E-00F7-4859-91FA-C8F85EB3C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399F968-6CA0-4236-8C53-C25D1541B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BA4BB-8976-48CA-9F35-2DF465C6E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526CF-21FC-4269-8841-B52C952D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C64114-B6D5-4449-81FD-03D21B44B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191C19-E41A-4854-8281-B6B9D8B5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746767-B025-4FAB-8ECA-C66FB8C5D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DF9FEF-BD1A-4A13-AB8E-4ED64B8E9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C1D380-C8B6-4E7B-A0BB-F976FF6A3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8CD7F3-BDE5-47B2-B19D-D038F395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BFF8E25-11D6-4544-80D3-FE7BA664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1C1CDD-1038-405D-B70B-F60F3F42E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A9FB41-ADD1-4439-8256-6E9096D0D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0803-6BC7-49CC-AF08-EE6742D39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C7C73E-3E39-4761-91A0-F2F9DE173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CF6688-4DE8-450F-87DB-B3F20B93C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48995F-AF07-472D-8B81-59790F7C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B3FCF4-DD61-4D9C-85BB-592D23C15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DBB144-D011-4319-AAA9-0F93EBA1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F3548E5-BC70-419E-9A01-5005D39E5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956A823-200A-4B1E-9C1D-92F468BC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ED0A90-97CE-45DA-BFB9-9FBE7155E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367D04-FE35-4EFA-B307-272CEB052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C9B120-3398-4FFB-9640-C5DBD8909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9D182-CFB1-4284-B6E6-47A5AE62B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981FE1-01AC-43DF-A8D3-766123497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0B2954-F531-47D3-A005-2851202A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8B5B053-BCFE-4B0A-A851-6E9F98751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C854E30-F046-4703-8B8A-5304CCA5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FEBF36-C347-4F48-B1A5-C2F192BFB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544127-04C5-48C4-9A4D-63287C93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2C9892-23DA-4F39-A41E-2B6007DE0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3FC9DC-A8EE-430A-84B1-51C457083F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84B4BE8-876E-4AF8-8532-CC1CA6D89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8D862EC-1A15-49CB-AB4A-FB892795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0CD37-B665-479D-BE4D-AC34E2442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219626-CF89-4F0B-A55B-7B0AAF821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83B173-D45F-4F6D-BB37-3538DFEF8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950341-73C9-4B77-A254-6CF0157B7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3360C17-85F7-4315-8281-267E01223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75CBF7-F505-4FFE-A0B4-998EA3A0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43AB1F6-24EB-4269-A5A3-9F0E992A1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726796-5B28-42FD-B8B1-2916E1859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E39D7B5-4AFA-4749-942C-63C56E607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91297A-CD60-40DB-AF2A-7AF308137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0C2897-7812-4F00-AB8B-21517A1991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D4260-4740-422B-8727-5DAACDEE6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9F34E7C-D536-42D8-A23F-FA375BA0B7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DF46F7B-984F-49E2-BA61-09633DB26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2D1B99D-1044-4F16-B868-4F99AE7EF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F338C1E-248C-4B01-B8D6-F6958EF27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FCA543-C0CE-491A-BFEB-D394B0EB4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718CF7-3556-40E5-A66E-08D3AAB6E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3B4C26-E219-40AC-A496-E787EA80A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B24D473-1DB5-417C-8FF3-EDE6D1CA1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89B5261-B8EE-47CC-BEA5-9CCBBB79E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4BC123-A1C5-44C5-A921-0F36AB6FA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DADD-2853-40BD-B27A-C269E9691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2F8CD9-E318-4A5A-AE9A-A42A2DB22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96C05E-7B15-4834-8227-473CEFA65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C8B0F90-9E15-4480-AD70-A03CA19B6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B91D19-2416-4B69-9D92-DF885C7C8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BD28FA-B8A8-4141-BE37-7DA47725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CD4BF7B-06B1-4521-8F3E-734821368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E46C4DC-21FA-48F4-B53E-24C9AA115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E2CCCB-A551-44E7-A6C9-2D9036C34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40E9C8F-9EFE-4F57-8E42-E79164B94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043424-FBB3-4E2D-8FFD-A0F3C7BFF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27B7-285B-4B81-8865-91D71D88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57D5-70C0-415C-8DC0-4ABCDE951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E1A24F-C8E4-4281-B014-B1BB5BA0F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7E909C-A671-45D3-B8CA-B97174783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BFC581-DC7E-46BD-BCA0-ED25617B7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8DFF51-9B8D-4A3D-B3B1-E8AA36CBD3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DEF167-49D0-43CB-80F8-951DABF03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4E9AABC-8109-4337-8307-B517F33D2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BE812DF-D699-42A2-A8D5-7E5944662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883973-F4AD-4992-A439-9B2E8C345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00E12A-A40B-424F-9B85-C1034D53D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E049176-FD22-45AE-8A15-99E8DEA36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4D107-4333-4E96-9D35-51299F23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EE30C80-4A4B-45D9-AD9F-C0B881F0D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00A52C2-3F84-4BF8-90F5-4D9F9AFF1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8CB890-C943-4BE2-AF4B-BD4C34733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4D30188-3415-479C-B2BE-720C9268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7F7B581-A16E-421B-A167-0DA487068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90C8BE-DFB8-4F15-B406-868693D9F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DE5467-A49A-4217-8995-854CDD455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432AE5-8BBF-41E2-92A2-4B1879A67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FD9B40-36E5-4B49-A246-347DCBA0D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FCAA19-BC1D-4626-9C55-3DC95DF51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AF0F-5589-42E3-B8C9-15DCB739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995E27-C0F3-48E8-8CD6-3F336B611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CD89D8-4F58-4D43-BA90-E534BB042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489B01-8176-4910-8BBC-E791F6865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446D4B1-667E-4E58-8901-A25FCD2AD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425315-92DF-4354-BCB1-D61EB5ECC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FDA9201-4305-48C1-891D-56135D784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32B9C4-2931-4ECB-8511-F11FC4F10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E2FD75E-431C-493E-957C-195730272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BE344C0-7A95-4663-87F0-9C85C290D5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4E919B2-E254-44B1-BFA2-22C63ACB7E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151B3-B770-4857-9EB0-8D4C27E3E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630E95D-EE8A-430C-A644-5A40C556D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3431656-1600-41C0-9824-DC3B5E564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A234CE-C1DE-4024-A0AF-7CCFDFFF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BCD8378-9AD5-4EF4-A98A-E2E2AD354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2AFC46-BD92-4FCF-9C96-B79F7D565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C096A1-FC6C-4283-86DF-74A39695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C1EDD9-1978-4D4E-A685-33EFFCA58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A75EFB-3151-4564-BD7A-EC3A1F63F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010ED4-4A8B-401A-AC04-4FA7329CD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F98952-F2DA-4ECE-BFAC-1E1735C05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396B7-7B68-421A-872E-262AFA2FB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025D23A-9BE4-40A9-89FD-3162679FD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3C27743-BA87-4709-91E4-5B59C39AB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D81698-A956-4B05-BA68-034F8E3A3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24C460-D87A-4D9A-9956-0009253DC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0257348-1E5B-4C09-8751-7973B14D8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123E27-4859-4BA8-9021-5C46E647B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8E262A2-CAA9-48C6-8587-8276F9AEA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2A7D1AB-76B0-4EEE-B880-205BAC6A8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BCD9F5-83E7-444A-8352-898B53F16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64DDD4D-F8C9-4AE4-8BE4-F099EA8F4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D6B63-0EA6-4033-938B-51B27A1E6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AC7DA90-69E7-4B2A-BA7C-173A721D6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2268E5-FC5A-4967-BD4F-CAF08B844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5C39D7-2DF0-4E48-90E5-C7EE3C03D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12D482-4E2B-406F-8B91-CCE89F44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28FBA1-A426-4BA8-B17C-B3BA6A84F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ED138C-BD24-4837-A1E0-A6408B5DD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330B9F-6BBA-414D-A62D-FA710E242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E8920-7BF0-4F30-A754-113A8A93D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A39F91-4674-43B1-B145-5913E7DCB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FAE0CB-7612-4AB1-AAB9-FF0D29BE0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02F9EB-2326-453D-978D-A8DDE78D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BD2B01-9578-426C-AB04-1E88A38EB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1A8986-5776-4DFF-A8D3-6E725564F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BAD5A-9233-4D42-929E-4968B283B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CE79A-F66A-4A8A-A4C7-9984221F0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A0487C-DAD8-407B-B430-5077A36F05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4D425-C2B0-42FC-854B-86A7F6D08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A03451-3A99-45E0-87B9-70512B76C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DA7D-74C6-4470-947D-C4623771E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E8014C-6F95-4946-81E8-DCF47EB9A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068719-4697-470A-8570-CF57BAC38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63B23C-72F5-4FF9-92F1-FBF208A91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471E91-473E-40E9-8D52-608D3FBCA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787115-252C-4AFB-8CDF-194A1D143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5D77A0-C801-4752-8701-0C47CFE83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99346-C719-438A-8C20-00A5F9949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B858F3-F135-42F9-8F5A-3DD1B9B71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5F6378-DD94-4220-9A25-D3B43AE9C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A50B84-8088-43F1-AAE6-0D59B570B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28138-E151-47E6-9F9D-1CD824E9B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20A7CB-7177-4707-8590-9AFAA03B3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474970-DF17-4E83-9162-7B4EAA7E2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25A3F6-EE70-4927-A163-C7F0B10F0E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83640B-8F37-4A77-9EE2-1C8B9DA21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0640EC-B18B-430F-A790-530B79B2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13C7A-6397-40D2-B5D4-B65C841E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5E1FAE-521E-468F-9C57-DA739DE28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6EB12A-0B16-4C66-9665-C138E8F4B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F007F7-D4A0-45E8-9A77-BF90C2FF3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18908E-01EA-45CB-AEFB-879E04FD2A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04BF-8275-4E58-A27F-38870578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CE3881-74F7-414B-8EF6-4A146BF07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F3C921-D209-48B6-A326-25F415391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E21729-2DC2-40BF-A89A-534D8C8D41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89D610-F253-4A39-862E-94D31FA5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949AD9-DEF7-41E9-82D4-EE5C31422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4EE16A-2118-4077-8DC8-3A36AED5E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7718C1-0767-4AC5-813C-BE0B30B77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FADED3-01C5-4947-9BF9-02CD82955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36048A-8C84-471B-9676-300737C41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008B89-02F4-4C76-A7AF-3504BCEA8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6B0F-BFD4-4C10-91C8-7EA51FE79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554227-7947-4069-BA7D-6A1762C9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B9D56-7EB4-44DA-85F9-F54725C1F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DEF965-3018-4923-B062-BA8154C088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CF46CF-66EE-44BC-B199-C78AB940DE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8264CB-B09B-4E61-B3D0-C64AA554C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BC7440-F232-4B7A-8D21-8434A733C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9E9BF-4EB7-4696-86C8-E22698CB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906982-AB24-4E27-A5C3-8E0ABB58D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EE731D-D8F3-41AA-BEE3-3CEE2B873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C031F1-B11E-4509-9938-95751F64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ECED-4832-4823-8977-7FC9273EB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299F0C-1933-483D-9025-FFA2FBAD8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B855DB-4616-4B31-AF98-AB6A55E8A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9DA9FD-161F-484A-A49F-C21CEC440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437CE-6F77-49DD-A857-EA7F0FDA2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41FB64-35C4-4896-92B8-C62BE39612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E49BE-F3A2-4BA2-971B-47CA16FFF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FD9890-6B7E-4891-AD45-11CA03277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F679DA-6017-48CE-8F5D-732024E6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5AFD1B2-6ABB-4DEA-8895-575E33F3F7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E3C3FC-008B-41E5-A521-99EA6F078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A563-500A-40FD-BE24-4363FDA84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C42C1E6-0D5D-4E21-890B-7FF88E66E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12E36C-7363-4B1D-BFCE-4E6FF1491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214AFD-788F-4BAF-BE2A-B12329D42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902EB-0177-4EB7-9CA7-16565A7E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6A6F9-1754-488E-85A3-6ACA46784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9DB31A-C7E1-4C94-B7E8-FA85C6B46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98E1BCE-CD02-4D20-AD24-AC87D5AB5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C6A606-9419-446F-89F3-2D30B5582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22C87EA-4F00-4E4D-81D6-9925F95B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888EC4-CFA2-41B0-9E66-3413858A1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FC35-F1E0-43C3-B59A-6A0CD4B62E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02FC52-BF12-406E-816A-5FF52D0819C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75DF7-A470-4A55-9931-720AF88F7E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26A30-BFD8-4FAC-953B-18E58D6827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C0F7-EA7A-4683-99F2-AECA3C6AD2B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AC0B2-4409-4A2C-B75A-3F9B96703F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CA9F2-A9EB-442C-BB8B-FD724629310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AB2F7-D075-4392-AA31-8B6CD31562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F5021-70FB-4A53-918A-AC86B0D9D9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E5716-FB64-4E5F-A906-2E88206349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C13F7-791F-438E-B7E2-0E99C09F14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A7885-3244-4727-984D-11C5DE68005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7CF7CA-1C61-4CF1-8409-CBFEBFCB84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0A978-3AFA-443D-A107-16315336B5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8B57E-2837-425C-9030-C89DCC88EF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A9E4D-225B-4429-855C-46000AFFE6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B8A236-DF42-4225-B624-B103728C338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DCB0-3947-47B1-ADE0-6D574F2187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1BA68-E2B4-47C2-80F7-7978F72004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0022F-7746-49BC-8D99-D7DE9CC5EC1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0D0EB-93AA-4E0D-8F60-434C06625CA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3E28-AFF7-471A-8E21-C49FDFEED5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B3F17-DBA7-4EAA-B064-86E141A27A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0A6D9-BCEE-4A4B-B8A2-3C45CBDE4F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127E02-7EA1-42B8-A6C1-9C03F9137F8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FF70F-E9D6-4F6A-B30C-947A87651F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4AEB-62DA-4475-A1E0-E383B8EFA98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6F7E98-C1BD-4059-8AFE-3B9216788D4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57735-A65C-442F-83BA-570D847F643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19310-BFAD-4CE5-BE90-E25546603E9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F338-DEB7-4517-BE85-54803CC9FB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21A0F-382C-43E7-A313-AC757D75F9C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1D980-FC23-4801-9D12-3B6AD2574AF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16759E-2CA6-4F98-B4C6-085A828D0DB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11798-83C4-4EDD-B3A3-6D820529C6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2E9AB-4231-451F-A3E6-1A6E9041C6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4C6AE-BC24-4F23-80F9-F3E06DF8C4B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4B42C-5447-4F5D-BAF1-E117CFFF7A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D9D0C-3067-422D-A601-AF0945C69D8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82DB2-3FF7-4462-B403-61C823C935A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13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图片 28678" descr=""/>
          <p:cNvPicPr/>
          <p:nvPr/>
        </p:nvPicPr>
        <p:blipFill>
          <a:blip r:embed="rId1"/>
          <a:stretch/>
        </p:blipFill>
        <p:spPr>
          <a:xfrm>
            <a:off x="766800" y="2438280"/>
            <a:ext cx="761040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5" name="图片 69633" descr=""/>
          <p:cNvPicPr/>
          <p:nvPr/>
        </p:nvPicPr>
        <p:blipFill>
          <a:blip r:embed="rId1"/>
          <a:stretch/>
        </p:blipFill>
        <p:spPr>
          <a:xfrm>
            <a:off x="266760" y="2190600"/>
            <a:ext cx="8610480" cy="2476800"/>
          </a:xfrm>
          <a:prstGeom prst="rect">
            <a:avLst/>
          </a:prstGeom>
          <a:ln w="0">
            <a:noFill/>
          </a:ln>
        </p:spPr>
      </p:pic>
      <p:pic>
        <p:nvPicPr>
          <p:cNvPr id="1076" name="Picture 1" descr=""/>
          <p:cNvPicPr/>
          <p:nvPr/>
        </p:nvPicPr>
        <p:blipFill>
          <a:blip r:embed="rId2"/>
          <a:stretch/>
        </p:blipFill>
        <p:spPr>
          <a:xfrm>
            <a:off x="2340000" y="2290680"/>
            <a:ext cx="503280" cy="792360"/>
          </a:xfrm>
          <a:prstGeom prst="rect">
            <a:avLst/>
          </a:prstGeom>
          <a:ln w="0">
            <a:noFill/>
          </a:ln>
        </p:spPr>
      </p:pic>
      <p:pic>
        <p:nvPicPr>
          <p:cNvPr id="1077" name="Picture 1" descr=""/>
          <p:cNvPicPr/>
          <p:nvPr/>
        </p:nvPicPr>
        <p:blipFill>
          <a:blip r:embed="rId3"/>
          <a:stretch/>
        </p:blipFill>
        <p:spPr>
          <a:xfrm>
            <a:off x="2340000" y="341460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1000"/>
                                        <p:tgtEl>
                                          <p:spTgt spid="10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1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8" name="图片 68609" descr=""/>
          <p:cNvPicPr/>
          <p:nvPr/>
        </p:nvPicPr>
        <p:blipFill>
          <a:blip r:embed="rId1"/>
          <a:stretch/>
        </p:blipFill>
        <p:spPr>
          <a:xfrm>
            <a:off x="281160" y="795240"/>
            <a:ext cx="8581680" cy="5267520"/>
          </a:xfrm>
          <a:prstGeom prst="rect">
            <a:avLst/>
          </a:prstGeom>
          <a:ln w="0">
            <a:noFill/>
          </a:ln>
        </p:spPr>
      </p:pic>
      <p:pic>
        <p:nvPicPr>
          <p:cNvPr id="1079" name="Picture 1" descr=""/>
          <p:cNvPicPr/>
          <p:nvPr/>
        </p:nvPicPr>
        <p:blipFill>
          <a:blip r:embed="rId2"/>
          <a:stretch/>
        </p:blipFill>
        <p:spPr>
          <a:xfrm>
            <a:off x="900000" y="2349360"/>
            <a:ext cx="7201080" cy="447840"/>
          </a:xfrm>
          <a:prstGeom prst="rect">
            <a:avLst/>
          </a:prstGeom>
          <a:ln w="0">
            <a:noFill/>
          </a:ln>
        </p:spPr>
      </p:pic>
      <p:pic>
        <p:nvPicPr>
          <p:cNvPr id="1080" name="Picture 1" descr=""/>
          <p:cNvPicPr/>
          <p:nvPr/>
        </p:nvPicPr>
        <p:blipFill>
          <a:blip r:embed="rId3"/>
          <a:stretch/>
        </p:blipFill>
        <p:spPr>
          <a:xfrm>
            <a:off x="900000" y="2924280"/>
            <a:ext cx="7201080" cy="447480"/>
          </a:xfrm>
          <a:prstGeom prst="rect">
            <a:avLst/>
          </a:prstGeom>
          <a:ln w="0">
            <a:noFill/>
          </a:ln>
        </p:spPr>
      </p:pic>
      <p:pic>
        <p:nvPicPr>
          <p:cNvPr id="1081" name="Picture 1" descr=""/>
          <p:cNvPicPr/>
          <p:nvPr/>
        </p:nvPicPr>
        <p:blipFill>
          <a:blip r:embed="rId4"/>
          <a:stretch/>
        </p:blipFill>
        <p:spPr>
          <a:xfrm>
            <a:off x="826920" y="3500280"/>
            <a:ext cx="7201080" cy="447840"/>
          </a:xfrm>
          <a:prstGeom prst="rect">
            <a:avLst/>
          </a:prstGeom>
          <a:ln w="0">
            <a:noFill/>
          </a:ln>
        </p:spPr>
      </p:pic>
      <p:pic>
        <p:nvPicPr>
          <p:cNvPr id="1082" name="Picture 1" descr=""/>
          <p:cNvPicPr/>
          <p:nvPr/>
        </p:nvPicPr>
        <p:blipFill>
          <a:blip r:embed="rId5"/>
          <a:stretch/>
        </p:blipFill>
        <p:spPr>
          <a:xfrm>
            <a:off x="826920" y="4076640"/>
            <a:ext cx="8066160" cy="93672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1" descr=""/>
          <p:cNvPicPr/>
          <p:nvPr/>
        </p:nvPicPr>
        <p:blipFill>
          <a:blip r:embed="rId6"/>
          <a:stretch/>
        </p:blipFill>
        <p:spPr>
          <a:xfrm>
            <a:off x="826920" y="5084640"/>
            <a:ext cx="7201080" cy="8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1000"/>
                                        <p:tgtEl>
                                          <p:spTgt spid="10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1000"/>
                                        <p:tgtEl>
                                          <p:spTgt spid="10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9" dur="1000"/>
                                        <p:tgtEl>
                                          <p:spTgt spid="10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4" dur="1000"/>
                                        <p:tgtEl>
                                          <p:spTgt spid="10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4" name="图片 67585" descr=""/>
          <p:cNvPicPr/>
          <p:nvPr/>
        </p:nvPicPr>
        <p:blipFill>
          <a:blip r:embed="rId1"/>
          <a:stretch/>
        </p:blipFill>
        <p:spPr>
          <a:xfrm>
            <a:off x="542880" y="1490760"/>
            <a:ext cx="8058240" cy="3876480"/>
          </a:xfrm>
          <a:prstGeom prst="rect">
            <a:avLst/>
          </a:prstGeom>
          <a:ln w="0">
            <a:noFill/>
          </a:ln>
        </p:spPr>
      </p:pic>
      <p:pic>
        <p:nvPicPr>
          <p:cNvPr id="1085" name="Picture 1" descr=""/>
          <p:cNvPicPr/>
          <p:nvPr/>
        </p:nvPicPr>
        <p:blipFill>
          <a:blip r:embed="rId2"/>
          <a:stretch/>
        </p:blipFill>
        <p:spPr>
          <a:xfrm>
            <a:off x="539640" y="2565360"/>
            <a:ext cx="8209080" cy="447840"/>
          </a:xfrm>
          <a:prstGeom prst="rect">
            <a:avLst/>
          </a:prstGeom>
          <a:ln w="0">
            <a:noFill/>
          </a:ln>
        </p:spPr>
      </p:pic>
      <p:pic>
        <p:nvPicPr>
          <p:cNvPr id="1086" name="Picture 1" descr=""/>
          <p:cNvPicPr/>
          <p:nvPr/>
        </p:nvPicPr>
        <p:blipFill>
          <a:blip r:embed="rId3"/>
          <a:stretch/>
        </p:blipFill>
        <p:spPr>
          <a:xfrm>
            <a:off x="468360" y="3141720"/>
            <a:ext cx="8209080" cy="447480"/>
          </a:xfrm>
          <a:prstGeom prst="rect">
            <a:avLst/>
          </a:prstGeom>
          <a:ln w="0">
            <a:noFill/>
          </a:ln>
        </p:spPr>
      </p:pic>
      <p:pic>
        <p:nvPicPr>
          <p:cNvPr id="1087" name="Picture 1" descr=""/>
          <p:cNvPicPr/>
          <p:nvPr/>
        </p:nvPicPr>
        <p:blipFill>
          <a:blip r:embed="rId4"/>
          <a:stretch/>
        </p:blipFill>
        <p:spPr>
          <a:xfrm>
            <a:off x="468360" y="3716280"/>
            <a:ext cx="8209080" cy="447840"/>
          </a:xfrm>
          <a:prstGeom prst="rect">
            <a:avLst/>
          </a:prstGeom>
          <a:ln w="0">
            <a:noFill/>
          </a:ln>
        </p:spPr>
      </p:pic>
      <p:pic>
        <p:nvPicPr>
          <p:cNvPr id="1088" name="Picture 1" descr=""/>
          <p:cNvPicPr/>
          <p:nvPr/>
        </p:nvPicPr>
        <p:blipFill>
          <a:blip r:embed="rId5"/>
          <a:stretch/>
        </p:blipFill>
        <p:spPr>
          <a:xfrm>
            <a:off x="395280" y="4292640"/>
            <a:ext cx="8209080" cy="447480"/>
          </a:xfrm>
          <a:prstGeom prst="rect">
            <a:avLst/>
          </a:prstGeom>
          <a:ln w="0">
            <a:noFill/>
          </a:ln>
        </p:spPr>
      </p:pic>
      <p:pic>
        <p:nvPicPr>
          <p:cNvPr id="1089" name="Picture 1" descr=""/>
          <p:cNvPicPr/>
          <p:nvPr/>
        </p:nvPicPr>
        <p:blipFill>
          <a:blip r:embed="rId6"/>
          <a:stretch/>
        </p:blipFill>
        <p:spPr>
          <a:xfrm>
            <a:off x="395280" y="4840200"/>
            <a:ext cx="8209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10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10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10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1000"/>
                                        <p:tgtEl>
                                          <p:spTgt spid="10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1000"/>
                                        <p:tgtEl>
                                          <p:spTgt spid="10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0" name="图片 66561" descr=""/>
          <p:cNvPicPr/>
          <p:nvPr/>
        </p:nvPicPr>
        <p:blipFill>
          <a:blip r:embed="rId1"/>
          <a:stretch/>
        </p:blipFill>
        <p:spPr>
          <a:xfrm>
            <a:off x="247680" y="932040"/>
            <a:ext cx="8648640" cy="3504960"/>
          </a:xfrm>
          <a:prstGeom prst="rect">
            <a:avLst/>
          </a:prstGeom>
          <a:ln w="0">
            <a:noFill/>
          </a:ln>
        </p:spPr>
      </p:pic>
      <p:pic>
        <p:nvPicPr>
          <p:cNvPr id="1091" name="图片 66562" descr=""/>
          <p:cNvPicPr/>
          <p:nvPr/>
        </p:nvPicPr>
        <p:blipFill>
          <a:blip r:embed="rId2"/>
          <a:stretch/>
        </p:blipFill>
        <p:spPr>
          <a:xfrm>
            <a:off x="684360" y="4581360"/>
            <a:ext cx="6877080" cy="1847880"/>
          </a:xfrm>
          <a:prstGeom prst="rect">
            <a:avLst/>
          </a:prstGeom>
          <a:ln w="0">
            <a:noFill/>
          </a:ln>
        </p:spPr>
      </p:pic>
      <p:pic>
        <p:nvPicPr>
          <p:cNvPr id="1092" name="Picture 1" descr=""/>
          <p:cNvPicPr/>
          <p:nvPr/>
        </p:nvPicPr>
        <p:blipFill>
          <a:blip r:embed="rId3"/>
          <a:stretch/>
        </p:blipFill>
        <p:spPr>
          <a:xfrm>
            <a:off x="755640" y="3213000"/>
            <a:ext cx="4968720" cy="792360"/>
          </a:xfrm>
          <a:prstGeom prst="rect">
            <a:avLst/>
          </a:prstGeom>
          <a:ln w="0">
            <a:noFill/>
          </a:ln>
        </p:spPr>
      </p:pic>
      <p:pic>
        <p:nvPicPr>
          <p:cNvPr id="1093" name="Picture 1" descr=""/>
          <p:cNvPicPr/>
          <p:nvPr/>
        </p:nvPicPr>
        <p:blipFill>
          <a:blip r:embed="rId4"/>
          <a:stretch/>
        </p:blipFill>
        <p:spPr>
          <a:xfrm>
            <a:off x="684360" y="4581360"/>
            <a:ext cx="7272360" cy="792360"/>
          </a:xfrm>
          <a:prstGeom prst="rect">
            <a:avLst/>
          </a:prstGeom>
          <a:ln w="0">
            <a:noFill/>
          </a:ln>
        </p:spPr>
      </p:pic>
      <p:pic>
        <p:nvPicPr>
          <p:cNvPr id="1094" name="Picture 1" descr=""/>
          <p:cNvPicPr/>
          <p:nvPr/>
        </p:nvPicPr>
        <p:blipFill>
          <a:blip r:embed="rId5"/>
          <a:stretch/>
        </p:blipFill>
        <p:spPr>
          <a:xfrm>
            <a:off x="755640" y="5589720"/>
            <a:ext cx="7272360" cy="79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8" dur="1000"/>
                                        <p:tgtEl>
                                          <p:spTgt spid="10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3" dur="10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8" dur="1000"/>
                                        <p:tgtEl>
                                          <p:spTgt spid="10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5" name="图片 65537" descr=""/>
          <p:cNvPicPr/>
          <p:nvPr/>
        </p:nvPicPr>
        <p:blipFill>
          <a:blip r:embed="rId1"/>
          <a:stretch/>
        </p:blipFill>
        <p:spPr>
          <a:xfrm>
            <a:off x="276120" y="990720"/>
            <a:ext cx="8591760" cy="4876560"/>
          </a:xfrm>
          <a:prstGeom prst="rect">
            <a:avLst/>
          </a:prstGeom>
          <a:ln w="0">
            <a:noFill/>
          </a:ln>
        </p:spPr>
      </p:pic>
      <p:pic>
        <p:nvPicPr>
          <p:cNvPr id="1096" name="Picture 1" descr=""/>
          <p:cNvPicPr/>
          <p:nvPr/>
        </p:nvPicPr>
        <p:blipFill>
          <a:blip r:embed="rId2"/>
          <a:stretch/>
        </p:blipFill>
        <p:spPr>
          <a:xfrm>
            <a:off x="684360" y="2995560"/>
            <a:ext cx="8208720" cy="792360"/>
          </a:xfrm>
          <a:prstGeom prst="rect">
            <a:avLst/>
          </a:prstGeom>
          <a:ln w="0">
            <a:noFill/>
          </a:ln>
        </p:spPr>
      </p:pic>
      <p:pic>
        <p:nvPicPr>
          <p:cNvPr id="1097" name="Picture 1" descr=""/>
          <p:cNvPicPr/>
          <p:nvPr/>
        </p:nvPicPr>
        <p:blipFill>
          <a:blip r:embed="rId3"/>
          <a:stretch/>
        </p:blipFill>
        <p:spPr>
          <a:xfrm>
            <a:off x="684360" y="4005360"/>
            <a:ext cx="8208720" cy="792000"/>
          </a:xfrm>
          <a:prstGeom prst="rect">
            <a:avLst/>
          </a:prstGeom>
          <a:ln w="0">
            <a:noFill/>
          </a:ln>
        </p:spPr>
      </p:pic>
      <p:pic>
        <p:nvPicPr>
          <p:cNvPr id="1098" name="Picture 1" descr=""/>
          <p:cNvPicPr/>
          <p:nvPr/>
        </p:nvPicPr>
        <p:blipFill>
          <a:blip r:embed="rId4"/>
          <a:stretch/>
        </p:blipFill>
        <p:spPr>
          <a:xfrm>
            <a:off x="684360" y="4998960"/>
            <a:ext cx="820872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0" dur="indefinite" restart="never" nodeType="tmRoot">
          <p:childTnLst>
            <p:seq>
              <p:cTn id="321" dur="indefinite" nodeType="mainSeq">
                <p:childTnLst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5" dur="1000"/>
                                        <p:tgtEl>
                                          <p:spTgt spid="10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0" dur="1000"/>
                                        <p:tgtEl>
                                          <p:spTgt spid="10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5" dur="10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9" name="图片 64513" descr=""/>
          <p:cNvPicPr/>
          <p:nvPr/>
        </p:nvPicPr>
        <p:blipFill>
          <a:blip r:embed="rId1"/>
          <a:stretch/>
        </p:blipFill>
        <p:spPr>
          <a:xfrm>
            <a:off x="276120" y="538200"/>
            <a:ext cx="8591760" cy="578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0" name="图片 63489" descr=""/>
          <p:cNvPicPr/>
          <p:nvPr/>
        </p:nvPicPr>
        <p:blipFill>
          <a:blip r:embed="rId1"/>
          <a:stretch/>
        </p:blipFill>
        <p:spPr>
          <a:xfrm>
            <a:off x="338040" y="866880"/>
            <a:ext cx="8467920" cy="5124240"/>
          </a:xfrm>
          <a:prstGeom prst="rect">
            <a:avLst/>
          </a:prstGeom>
          <a:ln w="0">
            <a:noFill/>
          </a:ln>
        </p:spPr>
      </p:pic>
      <p:pic>
        <p:nvPicPr>
          <p:cNvPr id="1101" name="Picture 1" descr=""/>
          <p:cNvPicPr/>
          <p:nvPr/>
        </p:nvPicPr>
        <p:blipFill>
          <a:blip r:embed="rId2"/>
          <a:stretch/>
        </p:blipFill>
        <p:spPr>
          <a:xfrm>
            <a:off x="395280" y="2060640"/>
            <a:ext cx="8569440" cy="792000"/>
          </a:xfrm>
          <a:prstGeom prst="rect">
            <a:avLst/>
          </a:prstGeom>
          <a:ln w="0">
            <a:noFill/>
          </a:ln>
        </p:spPr>
      </p:pic>
      <p:pic>
        <p:nvPicPr>
          <p:cNvPr id="1102" name="Picture 1" descr=""/>
          <p:cNvPicPr/>
          <p:nvPr/>
        </p:nvPicPr>
        <p:blipFill>
          <a:blip r:embed="rId3"/>
          <a:stretch/>
        </p:blipFill>
        <p:spPr>
          <a:xfrm>
            <a:off x="1260360" y="3068640"/>
            <a:ext cx="4032360" cy="792000"/>
          </a:xfrm>
          <a:prstGeom prst="rect">
            <a:avLst/>
          </a:prstGeom>
          <a:ln w="0">
            <a:noFill/>
          </a:ln>
        </p:spPr>
      </p:pic>
      <p:pic>
        <p:nvPicPr>
          <p:cNvPr id="1103" name="Picture 1" descr=""/>
          <p:cNvPicPr/>
          <p:nvPr/>
        </p:nvPicPr>
        <p:blipFill>
          <a:blip r:embed="rId4"/>
          <a:stretch/>
        </p:blipFill>
        <p:spPr>
          <a:xfrm>
            <a:off x="1547640" y="4005360"/>
            <a:ext cx="7201080" cy="447480"/>
          </a:xfrm>
          <a:prstGeom prst="rect">
            <a:avLst/>
          </a:prstGeom>
          <a:ln w="0">
            <a:noFill/>
          </a:ln>
        </p:spPr>
      </p:pic>
      <p:pic>
        <p:nvPicPr>
          <p:cNvPr id="1104" name="Picture 1" descr=""/>
          <p:cNvPicPr/>
          <p:nvPr/>
        </p:nvPicPr>
        <p:blipFill>
          <a:blip r:embed="rId5"/>
          <a:stretch/>
        </p:blipFill>
        <p:spPr>
          <a:xfrm>
            <a:off x="395280" y="4638600"/>
            <a:ext cx="8569440" cy="792360"/>
          </a:xfrm>
          <a:prstGeom prst="rect">
            <a:avLst/>
          </a:prstGeom>
          <a:ln w="0">
            <a:noFill/>
          </a:ln>
        </p:spPr>
      </p:pic>
      <p:pic>
        <p:nvPicPr>
          <p:cNvPr id="1105" name="Picture 1" descr=""/>
          <p:cNvPicPr/>
          <p:nvPr/>
        </p:nvPicPr>
        <p:blipFill>
          <a:blip r:embed="rId6"/>
          <a:stretch/>
        </p:blipFill>
        <p:spPr>
          <a:xfrm>
            <a:off x="295200" y="5502240"/>
            <a:ext cx="8569440" cy="7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2" dur="1000"/>
                                        <p:tgtEl>
                                          <p:spTgt spid="11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7" dur="1000"/>
                                        <p:tgtEl>
                                          <p:spTgt spid="1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2" dur="1000"/>
                                        <p:tgtEl>
                                          <p:spTgt spid="1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7" dur="10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2" dur="10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图片 60428" descr=""/>
          <p:cNvPicPr/>
          <p:nvPr/>
        </p:nvPicPr>
        <p:blipFill>
          <a:blip r:embed="rId1"/>
          <a:stretch/>
        </p:blipFill>
        <p:spPr>
          <a:xfrm>
            <a:off x="1681200" y="176040"/>
            <a:ext cx="5781600" cy="6505920"/>
          </a:xfrm>
          <a:prstGeom prst="rect">
            <a:avLst/>
          </a:prstGeom>
          <a:ln w="0">
            <a:noFill/>
          </a:ln>
        </p:spPr>
      </p:pic>
      <p:pic>
        <p:nvPicPr>
          <p:cNvPr id="1024" name="Picture 1" descr=""/>
          <p:cNvPicPr/>
          <p:nvPr/>
        </p:nvPicPr>
        <p:blipFill>
          <a:blip r:embed="rId2"/>
          <a:stretch/>
        </p:blipFill>
        <p:spPr>
          <a:xfrm>
            <a:off x="2470320" y="677880"/>
            <a:ext cx="1093680" cy="447480"/>
          </a:xfrm>
          <a:prstGeom prst="rect">
            <a:avLst/>
          </a:prstGeom>
          <a:ln w="0">
            <a:noFill/>
          </a:ln>
        </p:spPr>
      </p:pic>
      <p:pic>
        <p:nvPicPr>
          <p:cNvPr id="1025" name="Picture 1" descr=""/>
          <p:cNvPicPr/>
          <p:nvPr/>
        </p:nvPicPr>
        <p:blipFill>
          <a:blip r:embed="rId3"/>
          <a:stretch/>
        </p:blipFill>
        <p:spPr>
          <a:xfrm>
            <a:off x="3780000" y="2349360"/>
            <a:ext cx="2087280" cy="447840"/>
          </a:xfrm>
          <a:prstGeom prst="rect">
            <a:avLst/>
          </a:prstGeom>
          <a:ln w="0">
            <a:noFill/>
          </a:ln>
        </p:spPr>
      </p:pic>
      <p:pic>
        <p:nvPicPr>
          <p:cNvPr id="1026" name="Picture 1" descr=""/>
          <p:cNvPicPr/>
          <p:nvPr/>
        </p:nvPicPr>
        <p:blipFill>
          <a:blip r:embed="rId4"/>
          <a:stretch/>
        </p:blipFill>
        <p:spPr>
          <a:xfrm>
            <a:off x="3059280" y="2909880"/>
            <a:ext cx="1512720" cy="447840"/>
          </a:xfrm>
          <a:prstGeom prst="rect">
            <a:avLst/>
          </a:prstGeom>
          <a:ln w="0">
            <a:noFill/>
          </a:ln>
        </p:spPr>
      </p:pic>
      <p:pic>
        <p:nvPicPr>
          <p:cNvPr id="1027" name="Picture 1" descr=""/>
          <p:cNvPicPr/>
          <p:nvPr/>
        </p:nvPicPr>
        <p:blipFill>
          <a:blip r:embed="rId5"/>
          <a:stretch/>
        </p:blipFill>
        <p:spPr>
          <a:xfrm>
            <a:off x="2411280" y="3429000"/>
            <a:ext cx="2089440" cy="447840"/>
          </a:xfrm>
          <a:prstGeom prst="rect">
            <a:avLst/>
          </a:prstGeom>
          <a:ln w="0">
            <a:noFill/>
          </a:ln>
        </p:spPr>
      </p:pic>
      <p:pic>
        <p:nvPicPr>
          <p:cNvPr id="1028" name="Picture 1" descr=""/>
          <p:cNvPicPr/>
          <p:nvPr/>
        </p:nvPicPr>
        <p:blipFill>
          <a:blip r:embed="rId6"/>
          <a:stretch/>
        </p:blipFill>
        <p:spPr>
          <a:xfrm>
            <a:off x="2065320" y="5099040"/>
            <a:ext cx="10936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9" name="图片 59410" descr=""/>
          <p:cNvPicPr/>
          <p:nvPr/>
        </p:nvPicPr>
        <p:blipFill>
          <a:blip r:embed="rId1"/>
          <a:stretch/>
        </p:blipFill>
        <p:spPr>
          <a:xfrm>
            <a:off x="1614600" y="257040"/>
            <a:ext cx="5914800" cy="63439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2"/>
          <a:stretch/>
        </p:blipFill>
        <p:spPr>
          <a:xfrm>
            <a:off x="3635280" y="3933720"/>
            <a:ext cx="3961080" cy="44784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3"/>
          <a:stretch/>
        </p:blipFill>
        <p:spPr>
          <a:xfrm>
            <a:off x="1619280" y="4522680"/>
            <a:ext cx="5977080" cy="44784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4"/>
          <a:stretch/>
        </p:blipFill>
        <p:spPr>
          <a:xfrm>
            <a:off x="1619280" y="5041800"/>
            <a:ext cx="5977080" cy="44784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5"/>
          <a:stretch/>
        </p:blipFill>
        <p:spPr>
          <a:xfrm>
            <a:off x="1619280" y="5646600"/>
            <a:ext cx="5977080" cy="447840"/>
          </a:xfrm>
          <a:prstGeom prst="rect">
            <a:avLst/>
          </a:prstGeom>
          <a:ln w="0">
            <a:noFill/>
          </a:ln>
        </p:spPr>
      </p:pic>
      <p:pic>
        <p:nvPicPr>
          <p:cNvPr id="1034" name="Picture 1" descr=""/>
          <p:cNvPicPr/>
          <p:nvPr/>
        </p:nvPicPr>
        <p:blipFill>
          <a:blip r:embed="rId6"/>
          <a:stretch/>
        </p:blipFill>
        <p:spPr>
          <a:xfrm>
            <a:off x="1619280" y="6165720"/>
            <a:ext cx="59770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图片 58373" descr=""/>
          <p:cNvPicPr/>
          <p:nvPr/>
        </p:nvPicPr>
        <p:blipFill>
          <a:blip r:embed="rId1"/>
          <a:stretch/>
        </p:blipFill>
        <p:spPr>
          <a:xfrm>
            <a:off x="1633680" y="733320"/>
            <a:ext cx="5876640" cy="5391360"/>
          </a:xfrm>
          <a:prstGeom prst="rect">
            <a:avLst/>
          </a:prstGeom>
          <a:ln w="0">
            <a:noFill/>
          </a:ln>
        </p:spPr>
      </p:pic>
      <p:pic>
        <p:nvPicPr>
          <p:cNvPr id="1036" name="Picture 1" descr=""/>
          <p:cNvPicPr/>
          <p:nvPr/>
        </p:nvPicPr>
        <p:blipFill>
          <a:blip r:embed="rId2"/>
          <a:stretch/>
        </p:blipFill>
        <p:spPr>
          <a:xfrm>
            <a:off x="3635280" y="2809800"/>
            <a:ext cx="3961080" cy="44784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3"/>
          <a:stretch/>
        </p:blipFill>
        <p:spPr>
          <a:xfrm>
            <a:off x="1619280" y="3357720"/>
            <a:ext cx="5977080" cy="447480"/>
          </a:xfrm>
          <a:prstGeom prst="rect">
            <a:avLst/>
          </a:prstGeom>
          <a:ln w="0">
            <a:noFill/>
          </a:ln>
        </p:spPr>
      </p:pic>
      <p:pic>
        <p:nvPicPr>
          <p:cNvPr id="1038" name="Picture 1" descr=""/>
          <p:cNvPicPr/>
          <p:nvPr/>
        </p:nvPicPr>
        <p:blipFill>
          <a:blip r:embed="rId4"/>
          <a:stretch/>
        </p:blipFill>
        <p:spPr>
          <a:xfrm>
            <a:off x="1619280" y="3933720"/>
            <a:ext cx="5977080" cy="447840"/>
          </a:xfrm>
          <a:prstGeom prst="rect">
            <a:avLst/>
          </a:prstGeom>
          <a:ln w="0">
            <a:noFill/>
          </a:ln>
        </p:spPr>
      </p:pic>
      <p:pic>
        <p:nvPicPr>
          <p:cNvPr id="1039" name="Picture 1" descr=""/>
          <p:cNvPicPr/>
          <p:nvPr/>
        </p:nvPicPr>
        <p:blipFill>
          <a:blip r:embed="rId5"/>
          <a:stretch/>
        </p:blipFill>
        <p:spPr>
          <a:xfrm>
            <a:off x="1547640" y="4508640"/>
            <a:ext cx="5977080" cy="447480"/>
          </a:xfrm>
          <a:prstGeom prst="rect">
            <a:avLst/>
          </a:prstGeom>
          <a:ln w="0">
            <a:noFill/>
          </a:ln>
        </p:spPr>
      </p:pic>
      <p:pic>
        <p:nvPicPr>
          <p:cNvPr id="1040" name="Picture 1" descr=""/>
          <p:cNvPicPr/>
          <p:nvPr/>
        </p:nvPicPr>
        <p:blipFill>
          <a:blip r:embed="rId6"/>
          <a:stretch/>
        </p:blipFill>
        <p:spPr>
          <a:xfrm>
            <a:off x="1547640" y="5013360"/>
            <a:ext cx="5977080" cy="44748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7"/>
          <a:stretch/>
        </p:blipFill>
        <p:spPr>
          <a:xfrm>
            <a:off x="1476360" y="5589720"/>
            <a:ext cx="5977080" cy="44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1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5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图片 57352" descr=""/>
          <p:cNvPicPr/>
          <p:nvPr/>
        </p:nvPicPr>
        <p:blipFill>
          <a:blip r:embed="rId1"/>
          <a:stretch/>
        </p:blipFill>
        <p:spPr>
          <a:xfrm>
            <a:off x="190440" y="542880"/>
            <a:ext cx="8763120" cy="5772240"/>
          </a:xfrm>
          <a:prstGeom prst="rect">
            <a:avLst/>
          </a:prstGeom>
          <a:ln w="0">
            <a:noFill/>
          </a:ln>
        </p:spPr>
      </p:pic>
      <p:pic>
        <p:nvPicPr>
          <p:cNvPr id="1043" name="Picture 1" descr=""/>
          <p:cNvPicPr/>
          <p:nvPr/>
        </p:nvPicPr>
        <p:blipFill>
          <a:blip r:embed="rId2"/>
          <a:stretch/>
        </p:blipFill>
        <p:spPr>
          <a:xfrm>
            <a:off x="8172360" y="10382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4" name="Picture 1" descr=""/>
          <p:cNvPicPr/>
          <p:nvPr/>
        </p:nvPicPr>
        <p:blipFill>
          <a:blip r:embed="rId3"/>
          <a:stretch/>
        </p:blipFill>
        <p:spPr>
          <a:xfrm>
            <a:off x="6516720" y="3630600"/>
            <a:ext cx="1224000" cy="44784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4"/>
          <a:stretch/>
        </p:blipFill>
        <p:spPr>
          <a:xfrm>
            <a:off x="1244520" y="4230720"/>
            <a:ext cx="1081080" cy="39528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5"/>
          <a:stretch/>
        </p:blipFill>
        <p:spPr>
          <a:xfrm>
            <a:off x="8201160" y="5300640"/>
            <a:ext cx="503280" cy="4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7" name="图片 56324" descr=""/>
          <p:cNvPicPr/>
          <p:nvPr/>
        </p:nvPicPr>
        <p:blipFill>
          <a:blip r:embed="rId1"/>
          <a:stretch/>
        </p:blipFill>
        <p:spPr>
          <a:xfrm>
            <a:off x="190440" y="1766880"/>
            <a:ext cx="8763120" cy="332424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2"/>
          <a:stretch/>
        </p:blipFill>
        <p:spPr>
          <a:xfrm>
            <a:off x="8172360" y="184464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49" name="Picture 1" descr=""/>
          <p:cNvPicPr/>
          <p:nvPr/>
        </p:nvPicPr>
        <p:blipFill>
          <a:blip r:embed="rId3"/>
          <a:stretch/>
        </p:blipFill>
        <p:spPr>
          <a:xfrm>
            <a:off x="971640" y="3846600"/>
            <a:ext cx="1008000" cy="447480"/>
          </a:xfrm>
          <a:prstGeom prst="rect">
            <a:avLst/>
          </a:prstGeom>
          <a:ln w="0">
            <a:noFill/>
          </a:ln>
        </p:spPr>
      </p:pic>
      <p:pic>
        <p:nvPicPr>
          <p:cNvPr id="1050" name="Picture 1" descr=""/>
          <p:cNvPicPr/>
          <p:nvPr/>
        </p:nvPicPr>
        <p:blipFill>
          <a:blip r:embed="rId4"/>
          <a:stretch/>
        </p:blipFill>
        <p:spPr>
          <a:xfrm>
            <a:off x="7164360" y="4457880"/>
            <a:ext cx="1224000" cy="5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4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1" name="图片 55300" descr=""/>
          <p:cNvPicPr/>
          <p:nvPr/>
        </p:nvPicPr>
        <p:blipFill>
          <a:blip r:embed="rId1"/>
          <a:stretch/>
        </p:blipFill>
        <p:spPr>
          <a:xfrm>
            <a:off x="266760" y="1933560"/>
            <a:ext cx="8610480" cy="2990880"/>
          </a:xfrm>
          <a:prstGeom prst="rect">
            <a:avLst/>
          </a:prstGeom>
          <a:ln w="0">
            <a:noFill/>
          </a:ln>
        </p:spPr>
      </p:pic>
      <p:pic>
        <p:nvPicPr>
          <p:cNvPr id="1052" name="Picture 1" descr=""/>
          <p:cNvPicPr/>
          <p:nvPr/>
        </p:nvPicPr>
        <p:blipFill>
          <a:blip r:embed="rId2"/>
          <a:stretch/>
        </p:blipFill>
        <p:spPr>
          <a:xfrm>
            <a:off x="684360" y="3025800"/>
            <a:ext cx="2735280" cy="376200"/>
          </a:xfrm>
          <a:prstGeom prst="rect">
            <a:avLst/>
          </a:prstGeom>
          <a:ln w="0">
            <a:noFill/>
          </a:ln>
        </p:spPr>
      </p:pic>
      <p:pic>
        <p:nvPicPr>
          <p:cNvPr id="1053" name="Picture 1" descr=""/>
          <p:cNvPicPr/>
          <p:nvPr/>
        </p:nvPicPr>
        <p:blipFill>
          <a:blip r:embed="rId3"/>
          <a:stretch/>
        </p:blipFill>
        <p:spPr>
          <a:xfrm>
            <a:off x="539640" y="3486240"/>
            <a:ext cx="2735280" cy="376200"/>
          </a:xfrm>
          <a:prstGeom prst="rect">
            <a:avLst/>
          </a:prstGeom>
          <a:ln w="0">
            <a:noFill/>
          </a:ln>
        </p:spPr>
      </p:pic>
      <p:pic>
        <p:nvPicPr>
          <p:cNvPr id="1054" name="Picture 1" descr=""/>
          <p:cNvPicPr/>
          <p:nvPr/>
        </p:nvPicPr>
        <p:blipFill>
          <a:blip r:embed="rId4"/>
          <a:stretch/>
        </p:blipFill>
        <p:spPr>
          <a:xfrm>
            <a:off x="611280" y="3846600"/>
            <a:ext cx="4032000" cy="376200"/>
          </a:xfrm>
          <a:prstGeom prst="rect">
            <a:avLst/>
          </a:prstGeom>
          <a:ln w="0">
            <a:noFill/>
          </a:ln>
        </p:spPr>
      </p:pic>
      <p:pic>
        <p:nvPicPr>
          <p:cNvPr id="1055" name="Picture 1" descr=""/>
          <p:cNvPicPr/>
          <p:nvPr/>
        </p:nvPicPr>
        <p:blipFill>
          <a:blip r:embed="rId5"/>
          <a:stretch/>
        </p:blipFill>
        <p:spPr>
          <a:xfrm>
            <a:off x="611280" y="4278240"/>
            <a:ext cx="4032000" cy="376200"/>
          </a:xfrm>
          <a:prstGeom prst="rect">
            <a:avLst/>
          </a:prstGeom>
          <a:ln w="0">
            <a:noFill/>
          </a:ln>
        </p:spPr>
      </p:pic>
      <p:pic>
        <p:nvPicPr>
          <p:cNvPr id="1056" name="Picture 1" descr=""/>
          <p:cNvPicPr/>
          <p:nvPr/>
        </p:nvPicPr>
        <p:blipFill>
          <a:blip r:embed="rId6"/>
          <a:stretch/>
        </p:blipFill>
        <p:spPr>
          <a:xfrm>
            <a:off x="4859280" y="3068640"/>
            <a:ext cx="2735280" cy="647640"/>
          </a:xfrm>
          <a:prstGeom prst="rect">
            <a:avLst/>
          </a:prstGeom>
          <a:ln w="0">
            <a:noFill/>
          </a:ln>
        </p:spPr>
      </p:pic>
      <p:pic>
        <p:nvPicPr>
          <p:cNvPr id="1057" name="Picture 1" descr=""/>
          <p:cNvPicPr/>
          <p:nvPr/>
        </p:nvPicPr>
        <p:blipFill>
          <a:blip r:embed="rId7"/>
          <a:stretch/>
        </p:blipFill>
        <p:spPr>
          <a:xfrm>
            <a:off x="4932360" y="3774960"/>
            <a:ext cx="2735280" cy="376200"/>
          </a:xfrm>
          <a:prstGeom prst="rect">
            <a:avLst/>
          </a:prstGeom>
          <a:ln w="0">
            <a:noFill/>
          </a:ln>
        </p:spPr>
      </p:pic>
      <p:pic>
        <p:nvPicPr>
          <p:cNvPr id="1058" name="Picture 1" descr=""/>
          <p:cNvPicPr/>
          <p:nvPr/>
        </p:nvPicPr>
        <p:blipFill>
          <a:blip r:embed="rId8"/>
          <a:stretch/>
        </p:blipFill>
        <p:spPr>
          <a:xfrm>
            <a:off x="4859280" y="4135320"/>
            <a:ext cx="4032360" cy="376200"/>
          </a:xfrm>
          <a:prstGeom prst="rect">
            <a:avLst/>
          </a:prstGeom>
          <a:ln w="0">
            <a:noFill/>
          </a:ln>
        </p:spPr>
      </p:pic>
      <p:pic>
        <p:nvPicPr>
          <p:cNvPr id="1059" name="Picture 1" descr=""/>
          <p:cNvPicPr/>
          <p:nvPr/>
        </p:nvPicPr>
        <p:blipFill>
          <a:blip r:embed="rId9"/>
          <a:stretch/>
        </p:blipFill>
        <p:spPr>
          <a:xfrm>
            <a:off x="4788000" y="4567320"/>
            <a:ext cx="403200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1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6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0" name="图片 54276" descr=""/>
          <p:cNvPicPr/>
          <p:nvPr/>
        </p:nvPicPr>
        <p:blipFill>
          <a:blip r:embed="rId1"/>
          <a:stretch/>
        </p:blipFill>
        <p:spPr>
          <a:xfrm>
            <a:off x="447840" y="1666800"/>
            <a:ext cx="8248320" cy="3524400"/>
          </a:xfrm>
          <a:prstGeom prst="rect">
            <a:avLst/>
          </a:prstGeom>
          <a:ln w="0">
            <a:noFill/>
          </a:ln>
        </p:spPr>
      </p:pic>
      <p:pic>
        <p:nvPicPr>
          <p:cNvPr id="1061" name="Picture 1" descr=""/>
          <p:cNvPicPr/>
          <p:nvPr/>
        </p:nvPicPr>
        <p:blipFill>
          <a:blip r:embed="rId2"/>
          <a:stretch/>
        </p:blipFill>
        <p:spPr>
          <a:xfrm>
            <a:off x="684360" y="2421000"/>
            <a:ext cx="2374920" cy="384120"/>
          </a:xfrm>
          <a:prstGeom prst="rect">
            <a:avLst/>
          </a:prstGeom>
          <a:ln w="0">
            <a:noFill/>
          </a:ln>
        </p:spPr>
      </p:pic>
      <p:pic>
        <p:nvPicPr>
          <p:cNvPr id="1062" name="Picture 1" descr=""/>
          <p:cNvPicPr/>
          <p:nvPr/>
        </p:nvPicPr>
        <p:blipFill>
          <a:blip r:embed="rId3"/>
          <a:stretch/>
        </p:blipFill>
        <p:spPr>
          <a:xfrm>
            <a:off x="539640" y="2781360"/>
            <a:ext cx="2374920" cy="384120"/>
          </a:xfrm>
          <a:prstGeom prst="rect">
            <a:avLst/>
          </a:prstGeom>
          <a:ln w="0">
            <a:noFill/>
          </a:ln>
        </p:spPr>
      </p:pic>
      <p:pic>
        <p:nvPicPr>
          <p:cNvPr id="1063" name="Picture 1" descr=""/>
          <p:cNvPicPr/>
          <p:nvPr/>
        </p:nvPicPr>
        <p:blipFill>
          <a:blip r:embed="rId4"/>
          <a:stretch/>
        </p:blipFill>
        <p:spPr>
          <a:xfrm>
            <a:off x="468360" y="3213000"/>
            <a:ext cx="2374920" cy="384120"/>
          </a:xfrm>
          <a:prstGeom prst="rect">
            <a:avLst/>
          </a:prstGeom>
          <a:ln w="0">
            <a:noFill/>
          </a:ln>
        </p:spPr>
      </p:pic>
      <p:pic>
        <p:nvPicPr>
          <p:cNvPr id="1064" name="Picture 1" descr=""/>
          <p:cNvPicPr/>
          <p:nvPr/>
        </p:nvPicPr>
        <p:blipFill>
          <a:blip r:embed="rId5"/>
          <a:stretch/>
        </p:blipFill>
        <p:spPr>
          <a:xfrm>
            <a:off x="468360" y="3645000"/>
            <a:ext cx="3382920" cy="384120"/>
          </a:xfrm>
          <a:prstGeom prst="rect">
            <a:avLst/>
          </a:prstGeom>
          <a:ln w="0">
            <a:noFill/>
          </a:ln>
        </p:spPr>
      </p:pic>
      <p:pic>
        <p:nvPicPr>
          <p:cNvPr id="1065" name="Picture 1" descr=""/>
          <p:cNvPicPr/>
          <p:nvPr/>
        </p:nvPicPr>
        <p:blipFill>
          <a:blip r:embed="rId6"/>
          <a:stretch/>
        </p:blipFill>
        <p:spPr>
          <a:xfrm>
            <a:off x="539640" y="4005360"/>
            <a:ext cx="3382920" cy="384120"/>
          </a:xfrm>
          <a:prstGeom prst="rect">
            <a:avLst/>
          </a:prstGeom>
          <a:ln w="0">
            <a:noFill/>
          </a:ln>
        </p:spPr>
      </p:pic>
      <p:pic>
        <p:nvPicPr>
          <p:cNvPr id="1066" name="Picture 1" descr=""/>
          <p:cNvPicPr/>
          <p:nvPr/>
        </p:nvPicPr>
        <p:blipFill>
          <a:blip r:embed="rId7"/>
          <a:stretch/>
        </p:blipFill>
        <p:spPr>
          <a:xfrm>
            <a:off x="4714920" y="2406600"/>
            <a:ext cx="4178160" cy="384120"/>
          </a:xfrm>
          <a:prstGeom prst="rect">
            <a:avLst/>
          </a:prstGeom>
          <a:ln w="0">
            <a:noFill/>
          </a:ln>
        </p:spPr>
      </p:pic>
      <p:pic>
        <p:nvPicPr>
          <p:cNvPr id="1067" name="Picture 1" descr=""/>
          <p:cNvPicPr/>
          <p:nvPr/>
        </p:nvPicPr>
        <p:blipFill>
          <a:blip r:embed="rId8"/>
          <a:stretch/>
        </p:blipFill>
        <p:spPr>
          <a:xfrm>
            <a:off x="4643280" y="2838600"/>
            <a:ext cx="2374920" cy="384120"/>
          </a:xfrm>
          <a:prstGeom prst="rect">
            <a:avLst/>
          </a:prstGeom>
          <a:ln w="0">
            <a:noFill/>
          </a:ln>
        </p:spPr>
      </p:pic>
      <p:pic>
        <p:nvPicPr>
          <p:cNvPr id="1068" name="Picture 1" descr=""/>
          <p:cNvPicPr/>
          <p:nvPr/>
        </p:nvPicPr>
        <p:blipFill>
          <a:blip r:embed="rId9"/>
          <a:stretch/>
        </p:blipFill>
        <p:spPr>
          <a:xfrm>
            <a:off x="4643280" y="3270240"/>
            <a:ext cx="3383280" cy="384120"/>
          </a:xfrm>
          <a:prstGeom prst="rect">
            <a:avLst/>
          </a:prstGeom>
          <a:ln w="0">
            <a:noFill/>
          </a:ln>
        </p:spPr>
      </p:pic>
      <p:pic>
        <p:nvPicPr>
          <p:cNvPr id="1069" name="Picture 1" descr=""/>
          <p:cNvPicPr/>
          <p:nvPr/>
        </p:nvPicPr>
        <p:blipFill>
          <a:blip r:embed="rId10"/>
          <a:stretch/>
        </p:blipFill>
        <p:spPr>
          <a:xfrm>
            <a:off x="4714920" y="3630600"/>
            <a:ext cx="3382920" cy="384120"/>
          </a:xfrm>
          <a:prstGeom prst="rect">
            <a:avLst/>
          </a:prstGeom>
          <a:ln w="0">
            <a:noFill/>
          </a:ln>
        </p:spPr>
      </p:pic>
      <p:pic>
        <p:nvPicPr>
          <p:cNvPr id="1070" name="Picture 1" descr=""/>
          <p:cNvPicPr/>
          <p:nvPr/>
        </p:nvPicPr>
        <p:blipFill>
          <a:blip r:embed="rId11"/>
          <a:stretch/>
        </p:blipFill>
        <p:spPr>
          <a:xfrm>
            <a:off x="4572000" y="4076640"/>
            <a:ext cx="417816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8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3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8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3" dur="1000"/>
                                        <p:tgtEl>
                                          <p:spTgt spid="10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1000"/>
                                        <p:tgtEl>
                                          <p:spTgt spid="10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3" dur="1000"/>
                                        <p:tgtEl>
                                          <p:spTgt spid="10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8" dur="1000"/>
                                        <p:tgtEl>
                                          <p:spTgt spid="10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1" name="图片 52231" descr=""/>
          <p:cNvPicPr/>
          <p:nvPr/>
        </p:nvPicPr>
        <p:blipFill>
          <a:blip r:embed="rId1"/>
          <a:stretch/>
        </p:blipFill>
        <p:spPr>
          <a:xfrm>
            <a:off x="247680" y="76320"/>
            <a:ext cx="8648640" cy="6705360"/>
          </a:xfrm>
          <a:prstGeom prst="rect">
            <a:avLst/>
          </a:prstGeom>
          <a:ln w="0">
            <a:noFill/>
          </a:ln>
        </p:spPr>
      </p:pic>
      <p:pic>
        <p:nvPicPr>
          <p:cNvPr id="1072" name="Picture 1" descr=""/>
          <p:cNvPicPr/>
          <p:nvPr/>
        </p:nvPicPr>
        <p:blipFill>
          <a:blip r:embed="rId2"/>
          <a:stretch/>
        </p:blipFill>
        <p:spPr>
          <a:xfrm>
            <a:off x="8101080" y="26028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73" name="Picture 1" descr=""/>
          <p:cNvPicPr/>
          <p:nvPr/>
        </p:nvPicPr>
        <p:blipFill>
          <a:blip r:embed="rId3"/>
          <a:stretch/>
        </p:blipFill>
        <p:spPr>
          <a:xfrm>
            <a:off x="8028000" y="2565360"/>
            <a:ext cx="503280" cy="447840"/>
          </a:xfrm>
          <a:prstGeom prst="rect">
            <a:avLst/>
          </a:prstGeom>
          <a:ln w="0">
            <a:noFill/>
          </a:ln>
        </p:spPr>
      </p:pic>
      <p:pic>
        <p:nvPicPr>
          <p:cNvPr id="1074" name="Picture 1" descr=""/>
          <p:cNvPicPr/>
          <p:nvPr/>
        </p:nvPicPr>
        <p:blipFill>
          <a:blip r:embed="rId4"/>
          <a:stretch/>
        </p:blipFill>
        <p:spPr>
          <a:xfrm>
            <a:off x="250920" y="4206960"/>
            <a:ext cx="8713800" cy="26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1000"/>
                                        <p:tgtEl>
                                          <p:spTgt spid="10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1000"/>
                                        <p:tgtEl>
                                          <p:spTgt spid="10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1000"/>
                                        <p:tgtEl>
                                          <p:spTgt spid="10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7-02T09:05:10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